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2A13-9009-4480-B714-F3E65B217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8406-4644-4A08-B74B-0B789562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14AA-98B7-4B54-8D14-13DCB7BE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558/flashcards/183558/jpg/picture213293237136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67F-0EEA-4F56-B37C-539F68AD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C01-9924-4859-A061-0A43D816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6F98-7652-4447-AE1E-163CEE0B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thodsofhealing.com/the-advantages-and-disadvantages-of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8DFB-CA80-450C-84C8-B61393C7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aniwalker.com/stop-aging-now-telomere-supple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3469-C158-4113-92C8-E51DB19C3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ntiagingultra.com/telomeresuppor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icaldisposables.us/telomerase-enzyme-production-telomere-supplement-p/tm-25-6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1697-CB37-45E4-A4BA-A76AFA1F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from: http://www.enrichgifts.com/Telomerase-Enzyme-p/telezyme_autoship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trients that support telomere health” (not telomer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049A-32CA-45C4-A4FE-2056EB28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244-02C4-412C-8335-DCAB407A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3AA-83F7-41AA-8946-9790A750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biology.kenyon.edu/courses/biol114/Chap01/chrom_struc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istones have +ve charg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A1E-E31B-4EC0-AA9A-DAA8F192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tru.ca/dnelson/courses/biol335/335notes/1nastructure/nastruct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27B0-00D3-468A-8761-A6D054C1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.planet.nl/~gkorthof/korthof59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imation: https://www.youtube.com/watch?v=xl8ply4A7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345-0829-4B2A-A579-68BFC667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964F-6458-4943-A81E-9BDB4CA0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7650-2146-47BF-803E-97B8E29B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pnews.in/health/physical-activity-may-prevent-stress-telomeres-21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45C2-0511-4557-8C79-96CF726F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A5B-557A-4660-96F2-5AA53915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8CD-C252-40DF-ACA7-92AF6594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3E4-0D72-4F3C-A544-2A41A46A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6EF-99BA-4627-AFBE-57584D4A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401-516D-4072-872F-6353BF4A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5D7-98B9-4A3D-8CA9-D39A47A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F68-2440-489D-A583-410F75BC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E9B-DB33-4C94-8B00-D57B64F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FA3-2B4B-4538-A958-E2587583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993-E87E-49A2-A1F8-1915CA0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9CB-C050-46C3-8F93-329E719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CEA-D002-4DC9-884B-F724E0D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A71-3CC7-4A94-B676-5DAEB3AC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elezyme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xl8ply4A7n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hor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replication, the 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mer on each strand is removed but not replaced with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meres shorten after each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any replications, telomeres will eventually disappear, allowing coding DNA to be dam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picture21329323713661.jpg"/>
          <p:cNvPicPr/>
          <p:nvPr/>
        </p:nvPicPr>
        <p:blipFill>
          <a:blip r:embed="rId1"/>
          <a:srcRect l="-24010" t="0" r="-24010" b="0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en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in a cel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lifespan when it loses the ability to divide &amp;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yflick lim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otal number of times a normal cell can divide (about 50 in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lly"/>
          <p:cNvPicPr/>
          <p:nvPr/>
        </p:nvPicPr>
        <p:blipFill>
          <a:blip r:embed="rId1"/>
          <a:stretch/>
        </p:blipFill>
        <p:spPr>
          <a:xfrm>
            <a:off x="3008160" y="198108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that adds more DNA to shortening 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germ line cells, stem cells, certain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 cells produce large quantities of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anti-aging-for-skin"/>
          <p:cNvPicPr/>
          <p:nvPr/>
        </p:nvPicPr>
        <p:blipFill>
          <a:blip r:embed="rId1"/>
          <a:stretch/>
        </p:blipFill>
        <p:spPr>
          <a:xfrm>
            <a:off x="2246400" y="1981080"/>
            <a:ext cx="465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 Supplemen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2" descr="Imortaliumbannerbanner.jpg"/>
          <p:cNvPicPr/>
          <p:nvPr/>
        </p:nvPicPr>
        <p:blipFill>
          <a:blip r:embed="rId1"/>
          <a:srcRect l="0" t="-18144" r="0" b="-18144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3" descr="TM-25-60-2.jpg"/>
          <p:cNvPicPr/>
          <p:nvPr/>
        </p:nvPicPr>
        <p:blipFill>
          <a:blip r:embed="rId1"/>
          <a:srcRect l="-36763" t="0" r="-36763" b="0"/>
          <a:stretch/>
        </p:blipFill>
        <p:spPr>
          <a:xfrm>
            <a:off x="684360" y="765000"/>
            <a:ext cx="77738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lezy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3" descr="telezyme-label.jpg"/>
          <p:cNvPicPr/>
          <p:nvPr/>
        </p:nvPicPr>
        <p:blipFill>
          <a:blip r:embed="rId2"/>
          <a:srcRect l="0" t="-19642" r="0" b="-1964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genome consists of 23 pair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of the DNA in one cell was stretched out, it would measure 1.8 metre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it fit into a typical human cell nucleus, 10 micrometres in dia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coiled around a group of 8 stabilizing protein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hrom1"/>
          <p:cNvPicPr/>
          <p:nvPr/>
        </p:nvPicPr>
        <p:blipFill>
          <a:blip r:embed="rId1"/>
          <a:stretch/>
        </p:blipFill>
        <p:spPr>
          <a:xfrm>
            <a:off x="2666880" y="3733920"/>
            <a:ext cx="414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en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group of 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s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iled into chromatin f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n fibres fold into final chromatin structure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2" descr="fig20.gif"/>
          <p:cNvPicPr/>
          <p:nvPr/>
        </p:nvPicPr>
        <p:blipFill>
          <a:blip r:embed="rId1"/>
          <a:srcRect l="0" t="-9752" r="0" b="-9752"/>
          <a:stretch/>
        </p:blipFill>
        <p:spPr>
          <a:xfrm>
            <a:off x="4427640" y="1700280"/>
            <a:ext cx="439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 Struct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romosome_structure"/>
          <p:cNvPicPr/>
          <p:nvPr/>
        </p:nvPicPr>
        <p:blipFill>
          <a:blip r:embed="rId2"/>
          <a:stretch/>
        </p:blipFill>
        <p:spPr>
          <a:xfrm>
            <a:off x="3130560" y="1981080"/>
            <a:ext cx="288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DNA is single circul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coi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sm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ther circular pieces of DNA that can be exchang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&amp; 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elomere_image-prv"/>
          <p:cNvPicPr/>
          <p:nvPr/>
        </p:nvPicPr>
        <p:blipFill>
          <a:blip r:embed="rId1"/>
          <a:stretch/>
        </p:blipFill>
        <p:spPr>
          <a:xfrm>
            <a:off x="1994040" y="1981080"/>
            <a:ext cx="515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m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ding, repetitive sequences at the end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chromosomes from degradation, fusing to other chromosomes, assist in DNA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4:22:18Z</dcterms:created>
  <dc:creator>rubina khan</dc:creator>
  <dc:description/>
  <dc:language>en-US</dc:language>
  <cp:lastModifiedBy>rubina khan</cp:lastModifiedBy>
  <dcterms:modified xsi:type="dcterms:W3CDTF">2017-03-24T15:20:11Z</dcterms:modified>
  <cp:revision>93</cp:revision>
  <dc:subject/>
  <dc:title>Molecular Genetics</dc:title>
</cp:coreProperties>
</file>